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CBEE-153F-4E4D-840F-B076CAE72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5B0F-AD28-4D25-9ED6-D660E6F9B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4870-33F6-4CBD-BB0C-4912A9092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5944-0EDC-4B32-9DB9-FEBDF68CF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C213-EED9-4DD3-A89C-BAF7BB91C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A2C2-B5C2-4168-BA51-1E14DEEC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30F8-564C-470E-B882-D23BFB2E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9598-9AFC-4514-BEA8-1F871269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3483-AC47-4A27-BE1F-C7BF7526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0FD-C4CF-45ED-9775-F26A041F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580C-BE20-4AA4-8F6F-D8D5D90F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6556-B0F2-46E1-8BAC-96EFE72E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6DE-DCC4-4C61-B2E1-219FE8ED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F51-FC3A-4F4A-A3C2-5580A17F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09C-AECB-466E-ADA1-F12FB65D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9D01-B279-49F8-9680-C77796D6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99B7-C201-48DA-AF97-5A285C6E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7FA9-7152-49CC-8EA1-B62E3C554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place in the desert made fertile by a steady supply of wa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http://www.absolutechinatours.com/UploadFiles/ImageBase/2008122182342678_2(1).jpg"/>
          <p:cNvPicPr/>
          <p:nvPr/>
        </p:nvPicPr>
        <p:blipFill>
          <a:blip r:embed="rId1"/>
          <a:stretch/>
        </p:blipFill>
        <p:spPr>
          <a:xfrm>
            <a:off x="380880" y="3124080"/>
            <a:ext cx="64389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78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eries of connected mountai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6781680" y="3505320"/>
            <a:ext cx="213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TN. R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http://www.ecardmedia.eu/data/media/49/Brooks%20Mountain%20Range,%20Alaska.jpg"/>
          <p:cNvPicPr/>
          <p:nvPr/>
        </p:nvPicPr>
        <p:blipFill>
          <a:blip r:embed="rId1"/>
          <a:stretch/>
        </p:blipFill>
        <p:spPr>
          <a:xfrm>
            <a:off x="914400" y="1828800"/>
            <a:ext cx="55213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how is a straight similar to an isthm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both narrow and connects t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http://www.worldatlas.com/aatlas/infopage/hormuz.gif"/>
          <p:cNvPicPr/>
          <p:nvPr/>
        </p:nvPicPr>
        <p:blipFill>
          <a:blip r:embed="rId1"/>
          <a:stretch/>
        </p:blipFill>
        <p:spPr>
          <a:xfrm>
            <a:off x="304920" y="3427560"/>
            <a:ext cx="3200400" cy="3193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nasa.gov/images/content/150519main_image_feature_595_ys_4.jpg"/>
          <p:cNvPicPr/>
          <p:nvPr/>
        </p:nvPicPr>
        <p:blipFill>
          <a:blip r:embed="rId2"/>
          <a:stretch/>
        </p:blipFill>
        <p:spPr>
          <a:xfrm>
            <a:off x="4952880" y="3429000"/>
            <a:ext cx="3962520" cy="297180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7"/>
          <p:cNvCxnSpPr/>
          <p:nvPr/>
        </p:nvCxnSpPr>
        <p:spPr>
          <a:xfrm flipH="1">
            <a:off x="2208960" y="4190040"/>
            <a:ext cx="16772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9" name="Straight Arrow Connector 8"/>
          <p:cNvCxnSpPr/>
          <p:nvPr/>
        </p:nvCxnSpPr>
        <p:spPr>
          <a:xfrm>
            <a:off x="4038120" y="4191120"/>
            <a:ext cx="20577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0" name="TextBox 10"/>
          <p:cNvSpPr/>
          <p:nvPr/>
        </p:nvSpPr>
        <p:spPr>
          <a:xfrm>
            <a:off x="3581280" y="34290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r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ight Arrow 11"/>
          <p:cNvSpPr/>
          <p:nvPr/>
        </p:nvSpPr>
        <p:spPr>
          <a:xfrm>
            <a:off x="4419720" y="5105520"/>
            <a:ext cx="1066680" cy="152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a gulf and a bay diffe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2209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y is smaller than a gu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http://www.gulfbase.org/gulf/GomDepth.jpg"/>
          <p:cNvPicPr/>
          <p:nvPr/>
        </p:nvPicPr>
        <p:blipFill>
          <a:blip r:embed="rId1"/>
          <a:stretch/>
        </p:blipFill>
        <p:spPr>
          <a:xfrm>
            <a:off x="380880" y="3581280"/>
            <a:ext cx="3648240" cy="2895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http://www.destination360.com/caribbean/jamaica/images/s/montego-bay.jpg"/>
          <p:cNvPicPr/>
          <p:nvPr/>
        </p:nvPicPr>
        <p:blipFill>
          <a:blip r:embed="rId2"/>
          <a:stretch/>
        </p:blipFill>
        <p:spPr>
          <a:xfrm>
            <a:off x="5410080" y="3686040"/>
            <a:ext cx="3057480" cy="2819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762120" y="3048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486400" y="3124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6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9907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a cape different than a peninsu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19810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ape is smal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9" descr="http://t3.gstatic.com/images?q=tbn:ANd9GcTItnzNcU7JUxbBzkmgn754nb_LPdssueWfNDD57N8eZs_rkWsp"/>
          <p:cNvPicPr/>
          <p:nvPr/>
        </p:nvPicPr>
        <p:blipFill>
          <a:blip r:embed="rId1"/>
          <a:stretch/>
        </p:blipFill>
        <p:spPr>
          <a:xfrm>
            <a:off x="685800" y="4191120"/>
            <a:ext cx="243828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http://t1.gstatic.com/images?q=tbn:ANd9GcSf2egqPeI-vDWXP39ToO9319EJxHTc1dcJaOp86vf-HGS0qYxA"/>
          <p:cNvPicPr/>
          <p:nvPr/>
        </p:nvPicPr>
        <p:blipFill>
          <a:blip r:embed="rId2"/>
          <a:stretch/>
        </p:blipFill>
        <p:spPr>
          <a:xfrm>
            <a:off x="5715000" y="4191120"/>
            <a:ext cx="2266920" cy="20095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2"/>
          <p:cNvSpPr/>
          <p:nvPr/>
        </p:nvSpPr>
        <p:spPr>
          <a:xfrm>
            <a:off x="762120" y="3657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6019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9907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a oasis different from a la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19810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asis is smal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762120" y="3657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6019920" y="3581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http://allkindsofhistory.files.wordpress.com/2011/05/157086xcitefun-crater-lake-1.jpg"/>
          <p:cNvPicPr/>
          <p:nvPr/>
        </p:nvPicPr>
        <p:blipFill>
          <a:blip r:embed="rId1"/>
          <a:stretch/>
        </p:blipFill>
        <p:spPr>
          <a:xfrm>
            <a:off x="380880" y="4191120"/>
            <a:ext cx="2895840" cy="2173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www.buzzle.com/images/geography/oasis.jpg"/>
          <p:cNvPicPr/>
          <p:nvPr/>
        </p:nvPicPr>
        <p:blipFill>
          <a:blip r:embed="rId2"/>
          <a:stretch/>
        </p:blipFill>
        <p:spPr>
          <a:xfrm>
            <a:off x="4800600" y="4114800"/>
            <a:ext cx="33336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large area of flat or nearly flat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7010280" y="3505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Pl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828800" y="3657600"/>
            <a:ext cx="175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e a picture OUTSIDE this box then delete this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http://www.great-adventures.com/images/tanzania/Unending%20Plain.jpg"/>
          <p:cNvPicPr/>
          <p:nvPr/>
        </p:nvPicPr>
        <p:blipFill>
          <a:blip r:embed="rId1"/>
          <a:stretch/>
        </p:blipFill>
        <p:spPr>
          <a:xfrm>
            <a:off x="838080" y="2819520"/>
            <a:ext cx="530568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oint of land that extends into a river,lake,or ocean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http://www.rankopedia.com/CandidatePix/72089.gif"/>
          <p:cNvPicPr/>
          <p:nvPr/>
        </p:nvPicPr>
        <p:blipFill>
          <a:blip r:embed="rId1"/>
          <a:stretch/>
        </p:blipFill>
        <p:spPr>
          <a:xfrm>
            <a:off x="1905120" y="3124080"/>
            <a:ext cx="28573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lace where a river begin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http://www.eoearth.org/files/110601_110700/110690/270px-Fowlsheughscotlandcmichaelhogan.jpg"/>
          <p:cNvPicPr/>
          <p:nvPr/>
        </p:nvPicPr>
        <p:blipFill>
          <a:blip r:embed="rId1"/>
          <a:stretch/>
        </p:blipFill>
        <p:spPr>
          <a:xfrm>
            <a:off x="1828800" y="2743200"/>
            <a:ext cx="40924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untain created as liquid rock and ash erupt from the inside the ear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http://www.solarnavigator.net/geography/geography_images/volcano_hawaii_kilauea_Puu_oo.jpg"/>
          <p:cNvPicPr/>
          <p:nvPr/>
        </p:nvPicPr>
        <p:blipFill>
          <a:blip r:embed="rId1"/>
          <a:stretch/>
        </p:blipFill>
        <p:spPr>
          <a:xfrm>
            <a:off x="609480" y="2209680"/>
            <a:ext cx="44672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gh, flat landform that rises steeply above the surrounding land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168120" y="-1417680"/>
            <a:ext cx="445788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8" descr="http://ecocheetah.wikispaces.com/file/view/RoanPlateau.jpg/33997573/RoanPlateau.jpg"/>
          <p:cNvPicPr/>
          <p:nvPr/>
        </p:nvPicPr>
        <p:blipFill>
          <a:blip r:embed="rId1"/>
          <a:stretch/>
        </p:blipFill>
        <p:spPr>
          <a:xfrm>
            <a:off x="838080" y="2209680"/>
            <a:ext cx="45054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Flat, low-lying land built up from soil carried downstream by a river and deposited at its mou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http://istgeography.wikispaces.com/file/view/delta_struct.gif/48078183/delta_struct.gif"/>
          <p:cNvPicPr/>
          <p:nvPr/>
        </p:nvPicPr>
        <p:blipFill>
          <a:blip r:embed="rId1"/>
          <a:stretch/>
        </p:blipFill>
        <p:spPr>
          <a:xfrm>
            <a:off x="990720" y="2666880"/>
            <a:ext cx="41529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2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huge sheet of ice that moves slowly across the la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rosssea.info/pix/big/Commonwealth-Glacier-Face.jpg"/>
          <p:cNvPicPr/>
          <p:nvPr/>
        </p:nvPicPr>
        <p:blipFill>
          <a:blip r:embed="rId1"/>
          <a:stretch/>
        </p:blipFill>
        <p:spPr>
          <a:xfrm>
            <a:off x="762120" y="2057400"/>
            <a:ext cx="50194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very dry area where few plants g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76320" y="-390600"/>
            <a:ext cx="11714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8" descr="http://images.free-extras.com/pics/d/desert_sun-1209.jpg"/>
          <p:cNvPicPr/>
          <p:nvPr/>
        </p:nvPicPr>
        <p:blipFill>
          <a:blip r:embed="rId1"/>
          <a:stretch/>
        </p:blipFill>
        <p:spPr>
          <a:xfrm>
            <a:off x="838080" y="2590920"/>
            <a:ext cx="508644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28T16:01:07Z</dcterms:modified>
  <cp:revision>47</cp:revision>
  <dc:subject/>
  <dc:title>PowerPoint Presentation</dc:title>
</cp:coreProperties>
</file>